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D32-F4DB-42CA-883F-EF9FAE81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DC8-479C-4F65-8237-A7D2625E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50E-3C11-43B9-AF5C-5255F49E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160-4A29-4A43-9AF4-E130EC28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C2F-11C0-4DC4-AD33-7959BB0F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BF8-EC3F-4B11-943A-93CB237E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472-8D7B-4B9C-8471-DC54AFCD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BFA-12DE-4A2C-8FA1-34A0D988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CCD-0C39-42F1-A866-CAE5E68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BAA-32B2-46B6-8EAD-7A027B0B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AF8-5648-4452-BE34-971974B6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172-4904-429D-8A46-555B6B41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0CCF-17DE-46AF-A9B4-2AFFE4B0E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8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3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comes en un caf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five things you can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three things you can dr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the names of three me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Presente de los verbos –ER, -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0% de los verbos en español terminan en    -ER o 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conjugar los verbos que terminan en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ER o –I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Sacamos la terminación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-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–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omer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Vi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Remplazamos la terminación de la siguiente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Ell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**Los dos son iguales EXEPTO en NOSOTROS Y VOSOTROS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318040" y="397656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349720" y="443376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364120" y="50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794200" y="403848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756400" y="441972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793480" y="4876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7012800" y="403848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011720" y="443376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212200" y="3581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326280" y="358128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R </a:t>
            </a: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/ 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verbo TENER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(to ha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erbo TENER es un verbo irregular “-GO” porque en la primera persona TENER termina en “–g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erbo TENER tambien es irregular porque la RAIZ del verbo cam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se conjuga el verbo TE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 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el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3733920" y="2819520"/>
            <a:ext cx="9144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3352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94160" y="28954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33526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632920" y="28954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ermin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5334120" y="320040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289960" y="4292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255400" y="481500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288880" y="54244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6557040" y="434340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598440" y="481500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Ten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632640" y="54244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verbos en el pres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EL VERBO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28600" y="3840120"/>
            <a:ext cx="8915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152280" y="152280"/>
            <a:ext cx="8915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5:34:38Z</dcterms:created>
  <dc:creator>Helen Zumaeta</dc:creator>
  <dc:description/>
  <dc:language>en-US</dc:language>
  <cp:lastModifiedBy>Helen Zumaeta</cp:lastModifiedBy>
  <cp:lastPrinted>2014-10-02T12:40:34Z</cp:lastPrinted>
  <dcterms:modified xsi:type="dcterms:W3CDTF">2014-10-02T18:03:31Z</dcterms:modified>
  <cp:revision>10</cp:revision>
  <dc:subject/>
  <dc:title>Me llamo _______ Clase 6nh/il La fecha es el 15 de marzo del 2011</dc:title>
</cp:coreProperties>
</file>